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9018-7846-4C64-961C-6EB2C894E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DC17-8B76-4841-AC4A-751F15FF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17FC-893A-43DD-A0E6-1AA7C878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D4D6-41D1-4BAA-9F88-EFD0C5E7C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9449-9897-4775-82A3-CB5E32E4E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2065-F43E-4805-B5D2-14149609D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4E08-0EF5-4CB5-8906-1330B88C2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66D-347E-4FBA-B1E3-3485E9C2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3C0-D4AD-49C8-8D6D-F4461CF9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0FB-9A0F-44E9-8A51-8F0D4646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48A-ABE7-406E-955A-C5A7140C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D6B-3F6E-4C26-85A6-4BB3C68C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8A5-5A55-408F-B399-5858E387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0A0-2F67-4E81-A3E0-94A8C462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DF4-2820-42B7-A681-50303DF2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B98-34EA-412A-9FD0-3074E7DD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C5B-A7A9-4301-A077-2CDAE4CF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326-52E5-4F2A-9324-9DC0A1E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85C-6B76-4813-86C7-71319918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0101-B17A-46AE-84D0-2D04B594E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Successful small ruminant feeding strategies: Lessons from elsewhere and their application in Ethiopia</a:t>
            </a:r>
            <a:br>
              <a:rPr sz="28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ill Thor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6076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thiopian Livestock Feed Project Synthesis workshop, Addis Ababa, 28-29 Ma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2"/>
          <a:stretch/>
        </p:blipFill>
        <p:spPr>
          <a:xfrm>
            <a:off x="3944880" y="304920"/>
            <a:ext cx="1160640" cy="116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D:\My Pictures\logos\eiar_logo.jpg"/>
          <p:cNvPicPr/>
          <p:nvPr/>
        </p:nvPicPr>
        <p:blipFill>
          <a:blip r:embed="rId3"/>
          <a:stretch/>
        </p:blipFill>
        <p:spPr>
          <a:xfrm>
            <a:off x="7620120" y="155520"/>
            <a:ext cx="920520" cy="146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My Pictures\logos\ARARI_logo.jpg"/>
          <p:cNvPicPr/>
          <p:nvPr/>
        </p:nvPicPr>
        <p:blipFill>
          <a:blip r:embed="rId4"/>
          <a:stretch/>
        </p:blipFill>
        <p:spPr>
          <a:xfrm>
            <a:off x="609480" y="279360"/>
            <a:ext cx="12193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E5FC-D769-473E-91EB-8A4E3C814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ccessful SR feeding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e-pron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knowledge of current &amp; past R&amp;D activities and the related literature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nic search of the SR literature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ed key informants in LAC, Africa, Asia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ad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info’ about undocumente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inks to grey liter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F802-CC53-45DF-9473-758F2BD1D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ccessful SR feeding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ent FAO electronic con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cesses and failures with animal nutrition  practices and technologies in developing countri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theoretical options but limited up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of research to involve farm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demonstrate convincing benefit : cost rati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 of extension services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55A2-3049-4F33-9A5F-AEC27BEA9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ccessful SR feeding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for farmer participatory, action-research ba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from CIAT’s SE Asia prog., Horne &amp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ür; often labour-saving importan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lihood systems including gend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SR value chains: input and output markets - increasing demand for meat driving 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84C5-F7A6-461B-85FE-F6956B667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ccessful SR feeding strategies: entry points in the production cyc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thiopia’s SR meat prod. systems, what entry points responsive to better fee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le cycle thro’ better grazing management and better crop resid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ening/finishing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-weaning grow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we/doe fert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ies to exploit beneficial nutrition x health inte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3900-0E54-49A7-B794-20E84981A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ccessful SR feeding strategies: what technologies and approach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rt feeding: targeting to improve efficiency of utilization of available f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ty-based management of CP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-feed crop improvement and cropping systems (e.g. legume intercropping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ed forages for stall-feeding: grasses, herbaceous legumes, 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6:42:54Z</dcterms:created>
  <dc:creator>thorpe</dc:creator>
  <dc:description/>
  <dc:language>en-US</dc:language>
  <cp:lastModifiedBy>PBallantyne</cp:lastModifiedBy>
  <dcterms:modified xsi:type="dcterms:W3CDTF">2012-05-29T03:49:15Z</dcterms:modified>
  <cp:revision>11</cp:revision>
  <dc:subject/>
  <dc:title>Ethiopia Feed Resources Project</dc:title>
</cp:coreProperties>
</file>